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6895-B76E-4A23-9431-A95EF28798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ПЕКТИВЫ МЕДИЦИНСКОГО ОБРАЗОВАНИЯ В РОССИИ: НОВЫЕ ОБРАЗОВАТЕЛЬНЫЕ СТАНД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роректор, проф.Масуев К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0DD6-C550-4984-9D12-EA684E5A282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КОНЦЕПЦИЯ РАЗВИТИЯ ЗДРАВООХРАНЕНИЯ РФ </a:t>
            </a:r>
            <a:br>
              <a:rPr sz="1200"/>
            </a:b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ДО 202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BD2F-8485-4F3D-8760-EF49106C13F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6875-A7B8-4217-9800-32730F64750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1411-A231-49DC-BB72-C37CA1A906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9341-AFED-48B7-AA60-0F8692C8A3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6895-2726-4E26-987D-DB5B4BAA27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5615-4857-4B30-A6DE-E0D0D8963F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F986-19DB-4E57-99B1-816402769C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ВРАЧЕБ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28E2-AB9E-47B3-937D-2E467B70B4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1956-0CD1-4487-A20E-F25D7DD1C7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77B1-AE59-4BB4-970D-BDA34A6507D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CD06-FA93-42B5-92B1-9A9625D7DA5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BBC8-74EA-42AB-9D2C-931AF448B79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0D5E-BC2E-44B9-A3F1-E0528AC1CBC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ЭТО ПРОИСХОДИТ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802D-BBC6-4D59-B4C8-506B05B3116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60AC-A339-4756-90B2-874C974883C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780F-DF98-4FD8-BE96-BA13A7AC62A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ми причинами врачебных ошибок по результатам независимых экспертиз являютс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хо собранный анамнез – в 23% случа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клиническом обследовании (осмотр, пальпация, аускультация) - 2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ечебно-профилактических мероприятиях - 19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абораторно-инструментальном обследовании - 1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форме ведения приема - 11,2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 в экспертизе трудоспособности - 7,2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973B-A311-4573-B004-5D2920BB553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ознакомление с информаци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выполнение обучающих задан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275A-B817-421C-9E44-2569A60F43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Новые ФГОСы основную задачу обучения определяют как «овладение компетенция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8AEE-C109-40CC-88AD-5FC96B24EBA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1200" spc="-1" strike="noStrike">
                <a:solidFill>
                  <a:srgbClr val="f0f93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F8BC-D6C5-4E98-BD1B-632F2E0B2E7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A45F-1754-4232-BFF7-1212580B01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973E-F101-4DD5-9407-6CAC32E3D5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9812-CE7D-4249-B37A-AE181A977E1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B425-C2B3-44E5-9467-C0508FF18A4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B84A-F2E3-460B-A012-FE71528CDBE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4E65-0CD1-4EEB-BF80-0B538BD9A1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C137-DABD-48EB-8FB6-33D92214A3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9933-215D-41C0-A059-43D024E86A6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B5A3-0477-4E8F-8914-DAFE2664FEB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больного научить врачебным умениям студента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9816-E7D4-4C95-9928-23F64D4EB8D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ятие «Положения о клинической больнице» в 2020 г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A049-5A92-4AE2-B8F3-13C063C566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Ф N 323-ФЗ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21 ноября 2011 г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Об основах охраны здоровья граждан в Российской Федер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77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подготовки медицинских работников и фармацевт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DB19-94D3-47A3-90A0-B02FA9B7A1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CFE9-1C8C-47B7-8BBE-2C97095D1F1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1200" spc="-1" strike="noStrike">
                <a:solidFill>
                  <a:srgbClr val="f0f93d"/>
                </a:solidFill>
                <a:latin typeface="Calibri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F25F-8ADB-4E4F-9850-34B2FE9EB3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1200" spc="-1" strike="noStrike">
                <a:solidFill>
                  <a:srgbClr val="f0f93d"/>
                </a:solidFill>
                <a:latin typeface="Calibri"/>
              </a:rPr>
              <a:t>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4F95-6C7F-4691-9CB9-795182B128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17EE-51F8-4AAA-B9FC-0FB42A4311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27B-E688-4449-AF6E-3C9BFE1C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637-71E0-4FFD-9576-CF441AC5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FAD-1C74-4F5C-AEC0-378AF203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5C7-D845-4301-983A-1B0CEE93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D773-DE7E-4FD6-8862-3B616EC6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87FF-0CB4-48FB-B96E-9232773C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4C34-3C76-41E1-A7C8-91900A2F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25CB-0061-4BCB-877C-ACA0FFB8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1BDC-8EC4-4DBD-B495-298AB13A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2FE3-7DA5-424C-BEF9-2D91F443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F2D7-F9BB-4C67-A367-D9B37FD5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17E-D8F5-4109-B7D8-45761A30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2B4F-42FA-4011-9E77-9E458E60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9AEC-E10B-484B-958F-995B7375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9E22-1C5B-42C5-9226-A06BB923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7CAE-4290-46E6-8B19-5CFB7DB7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1573-93F3-4A9E-9355-695C053D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D44F7-69B1-442E-81A4-DA4EC354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A24C-F4EE-4787-8443-FB304729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180A-7201-4E1F-A6F5-45164219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5F93-BC70-48DD-8E7A-3063854F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DA81A-A6CF-4082-8A98-98DE9F46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CD5-9CEF-4314-A229-258DD3A3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A1E32-A798-4174-BED6-7776FE0A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4CBA-4D90-45A0-81F1-D0B18274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99B01-0582-48CB-9BA3-AFF87876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872AF-169E-4402-8963-76E1E39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325F-B88F-4A38-93DE-C2B0EDF4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0AE3-8E96-4CE8-8B64-631ABEFA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F624-D415-4E99-879C-919AC65E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10821-F83C-4BA4-8E96-D0114E64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CFBB-C716-4EA5-A6D3-E2B534B7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00CF2-1AA6-45E4-8AC5-74AE2E50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D281-7C1B-4E6A-830F-135DC814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A8AF5-1707-4976-9105-8E8CC6C1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17392-C65D-4716-AC72-FEC4C07A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35E55-B943-4997-B9F0-83BD8E8E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D968F-23FE-4584-9D1B-CB49E39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DE8BD-85CC-45A8-905B-A554ACF2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62CE-7126-4061-B074-7E2626CB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FF35-D924-4887-A8D2-51D81976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3153-AF76-4BA3-8AAF-DD96744A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42D0-9E97-46AF-A78B-F1531E8F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096-8B39-45AB-9DCC-A992D805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6A0-1DB5-4522-94B8-7B103D89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EA1-1C8C-4675-BF1B-EAC5BC41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8F0-D957-4253-B2B9-D054AD17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C0B-BF01-42C4-A6B9-7B8768EA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B4E4-DB4A-41B9-8CAA-945562ED3677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5B7C-CD9C-4318-8645-C4FBD907DBB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8C6A-07DB-4473-A996-450BE812F39C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3D05-8227-4494-BC63-2E674CB8604A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864E-41A4-48F7-A9CC-E5EFBD1738FC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8C34-B035-407C-B110-0E96FC031B7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6E09-CBB7-42F3-A38F-18935CBE93DB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2F67-57A2-482F-B749-170360184473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474040" cy="4638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03280" y="536868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Проректор, проф.Масуев К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5520" y="285732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КОНЦЕПЦИЯ РАЗВИТИЯ ЗДРАВООХРАНЕНИЯ РФ </a:t>
            </a:r>
            <a:br>
              <a:rPr sz="4400"/>
            </a:b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ДО 2020 ГО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571800" y="6214680"/>
            <a:ext cx="17146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6715080" y="607212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Прямая соединительная линия 9"/>
          <p:cNvSpPr/>
          <p:nvPr/>
        </p:nvSpPr>
        <p:spPr>
          <a:xfrm>
            <a:off x="631800" y="2565360"/>
            <a:ext cx="0" cy="2879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8501040" y="3714840"/>
            <a:ext cx="64296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8"/>
          <p:cNvGraphicFramePr/>
          <p:nvPr/>
        </p:nvGraphicFramePr>
        <p:xfrm>
          <a:off x="0" y="500040"/>
          <a:ext cx="8786880" cy="603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0040"/>
                    <a:ext cx="87868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3"/>
          <p:cNvSpPr/>
          <p:nvPr/>
        </p:nvSpPr>
        <p:spPr>
          <a:xfrm>
            <a:off x="8501040" y="4643280"/>
            <a:ext cx="642960" cy="57168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9"/>
          <p:cNvGraphicFramePr/>
          <p:nvPr/>
        </p:nvGraphicFramePr>
        <p:xfrm>
          <a:off x="182520" y="0"/>
          <a:ext cx="8961480" cy="638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0"/>
                    <a:ext cx="89614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9"/>
          <p:cNvGraphicFramePr/>
          <p:nvPr/>
        </p:nvGraphicFramePr>
        <p:xfrm>
          <a:off x="66600" y="189000"/>
          <a:ext cx="9026640" cy="58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89000"/>
                    <a:ext cx="90266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571680" y="5000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едеральные государственные образовательные стандарты (ФГОС) представляют собой совокупность требований, обязательных при реализации основных образовательных программ общего и высшего профессионально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357120" y="1225440"/>
            <a:ext cx="8421840" cy="527544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РЕБОВАНИЯ К РЕЗУЛЬТАТАМ ОСВОЕНИЯ ООП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14200" y="2285640"/>
            <a:ext cx="8786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БЩЕКУЛЬТУРНЫЕ КОМПЕТЕН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29600" cy="2846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285840" y="4714920"/>
            <a:ext cx="8410320" cy="1595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РОФЕССИОНАЛЬ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8512200" cy="37180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0" y="2000160"/>
            <a:ext cx="9144000" cy="428796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429680" y="6357600"/>
            <a:ext cx="1714320" cy="428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Helios"/>
              </a:rPr>
              <a:t>РОССИЯ 2011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Прямая соединительная линия 9"/>
          <p:cNvSpPr/>
          <p:nvPr/>
        </p:nvSpPr>
        <p:spPr>
          <a:xfrm flipH="1">
            <a:off x="684360" y="2565360"/>
            <a:ext cx="1440" cy="3225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0" y="2000160"/>
            <a:ext cx="9144000" cy="28728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Рисунок 10" descr="logo.jpg"/>
          <p:cNvPicPr/>
          <p:nvPr/>
        </p:nvPicPr>
        <p:blipFill>
          <a:blip r:embed="rId1"/>
          <a:stretch/>
        </p:blipFill>
        <p:spPr>
          <a:xfrm>
            <a:off x="185760" y="189000"/>
            <a:ext cx="2154240" cy="971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838080" y="3098160"/>
            <a:ext cx="812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БЩЕВРАЧЕБ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2560" y="1714680"/>
            <a:ext cx="9001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7858080" cy="1523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428760" y="2071800"/>
            <a:ext cx="7929360" cy="207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57120" y="4572000"/>
            <a:ext cx="8005680" cy="160488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2428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8794800" cy="4025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133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79280" y="2773440"/>
            <a:ext cx="8964720" cy="28162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279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500040" y="142920"/>
            <a:ext cx="8358120" cy="134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43444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85840" y="1196640"/>
            <a:ext cx="885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9288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3240" y="189000"/>
          <a:ext cx="9061560" cy="60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890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0" y="214200"/>
          <a:ext cx="9061560" cy="604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42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2781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ЧЕМУ ЭТО ПРОИСХОДИТ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12760" y="-133200"/>
            <a:ext cx="8718480" cy="1985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00040" y="1856880"/>
            <a:ext cx="8429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охо собранный анамнез – в 23% случае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клиническом обследовании (осмотр, пальпация, аускультация) - 20,3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ечебно-профилактических мероприятиях - 19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абораторно-инструментальном обследовании - 14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форме ведения приема - 11,2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шибки в экспертизе трудоспособности - 7,2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1341000"/>
            <a:ext cx="86788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ознакомление с информацие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выполнение обучающих задани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Новые ФГОСы основную задачу обучения определяют как «овладение компетенция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3200" spc="-1" strike="noStrike">
                <a:solidFill>
                  <a:srgbClr val="f0f9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3040" y="260280"/>
          <a:ext cx="8832960" cy="58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60280"/>
                    <a:ext cx="883296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0040" y="4996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260280"/>
            <a:ext cx="8964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836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95280" y="836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85480" y="150012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000" y="1052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6760" y="713880"/>
            <a:ext cx="854388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з больного научить врачебным умениям студента не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4200" y="1599840"/>
            <a:ext cx="8786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ятие «Положения о клинической больнице» в 2020 г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Федеральный закон РФ N 323-ФЗ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т 21 ноября 2011 г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"Об основах охраны здоровья граждан в Российской Федерации"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тья 77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подготовки медицинских работников и фармацевтических работ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54936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2200" spc="-1" strike="noStrike">
                <a:solidFill>
                  <a:srgbClr val="f0f93d"/>
                </a:solidFill>
                <a:latin typeface="Tahoma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3200" spc="-1" strike="noStrike">
                <a:solidFill>
                  <a:srgbClr val="f0f93d"/>
                </a:solidFill>
                <a:latin typeface="Tahoma"/>
              </a:rPr>
              <a:t>безвозмездной осн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000080"/>
            <a:ext cx="8472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6:49:56Z</dcterms:created>
  <dc:creator>Администратор</dc:creator>
  <dc:description/>
  <dc:language>en-US</dc:language>
  <cp:lastModifiedBy>RomaK</cp:lastModifiedBy>
  <dcterms:modified xsi:type="dcterms:W3CDTF">2014-10-31T13:53:47Z</dcterms:modified>
  <cp:revision>88</cp:revision>
  <dc:subject/>
  <dc:title>РАЗВИТИЕ МЕДИЦИНСКОГО ОБРАЗОВАНИЯ В РОССИИ: НОВЫЕ ОБРАЗОВАТЕЛЬНЫЕ СТАНДАРТЫ.</dc:title>
</cp:coreProperties>
</file>